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2AC-8F15-4E7C-BB1F-5DAC8DA4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020-AB5D-4DC6-906D-A770BB3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28A-E3F9-44B4-8FA7-A9396B54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AF7-3498-4824-B5A0-13D7F0FF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0C2-09D4-4B16-A01B-CEABC82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774-553C-4EEF-B76A-32BD65CE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8FA-ED99-4625-9419-EE1B9C1B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B8-64D5-4F7A-A526-1FB839A6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551-D1D9-4EB5-9F71-6731EA74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065-F819-42D1-9028-8A1F8EA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2F2-2BCC-47CF-8A46-449035B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32C-FDCD-465D-9001-8661061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E84-3C93-438F-B6FA-0BAE54842044}" type="slidenum">
              <a:rPr b="0" lang="en-US" sz="14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lay Based Lear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868640"/>
            <a:ext cx="259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Created &amp; Presented by: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Katrina Baker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Early Years Team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Teaching Learning &amp; Standards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2822400"/>
            <a:ext cx="10989000" cy="403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3456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What is Pla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Play is the medium by which children learn about their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environment through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explor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manipul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trial &amp; error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improvis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acting out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Types of Pla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125360"/>
          <a:ext cx="8280360" cy="4178520"/>
        </p:xfrm>
        <a:graphic>
          <a:graphicData uri="http://schemas.openxmlformats.org/drawingml/2006/table">
            <a:tbl>
              <a:tblPr/>
              <a:tblGrid>
                <a:gridCol w="1800000"/>
                <a:gridCol w="1727280"/>
                <a:gridCol w="1944720"/>
                <a:gridCol w="1512720"/>
                <a:gridCol w="129564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ensory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through sens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Exploratory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fin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ou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anipulative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touch/feel/handle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ould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Dramatic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ole-taking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eten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reative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reating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scented/coloured play-dough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scented/coloured water-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colouredsand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ook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5fe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ixing colour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hades/dark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elationships  between shap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patial relatio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numbers &amp;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tter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iz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cff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Blocks,lego, duplo,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Brush block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per-fol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utting/past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hysical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a4f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etending to be  people animals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ranspor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acting out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ituatio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ole-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ee8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draw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inti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ollag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inti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tori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o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usic &amp; sound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tter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edd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ges of 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In the early years, children go through the stages of :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Passive on looke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Solitary player - plays by her/himself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Parallel play - plays </a:t>
            </a:r>
            <a:r>
              <a:rPr b="1" i="1" lang="en-US" sz="1800" spc="-1" strike="noStrike">
                <a:solidFill>
                  <a:srgbClr val="336600"/>
                </a:solidFill>
                <a:latin typeface="Century Gothic"/>
              </a:rPr>
              <a:t>beside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another playe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Associative play - play in a group with simila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resources, but no shared goal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or rol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Cooperative play  - team play with specific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                 goals and roles with shared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                                                      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input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Characteristics of Pla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Children’s play is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pontaneou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-directed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-regulated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based on individual learning style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 absorbing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Play Based Learning is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child-centred – the needs; interests; abilities of the students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learning styles are reflected in the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program; setting up of the environment,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with a wide variety of resources for selec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and choice making, enabling each to lear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in their own way achieving the outcomes,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as well as, their own unique milestone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student/peer initiated – they take the lead and choos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what/how/with what will they play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    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teacher guided/supported/scaffolded: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abov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off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500" spc="-1" strike="noStrike">
                <a:solidFill>
                  <a:srgbClr val="336600"/>
                </a:solidFill>
                <a:latin typeface="Century Gothic"/>
              </a:rPr>
              <a:t>	</a:t>
            </a:r>
            <a:endParaRPr b="0" lang="en-US" sz="5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Play Based Learning is important because it: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is developmentally appropriate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is inclusive of all stages of development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 is supported by evidence based practice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and brain research that inform the need for, and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the nature of learning opportunities for children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to develop attitudes, skills and understandings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            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3:17:40Z</dcterms:created>
  <dc:creator>Katrina Baker</dc:creator>
  <dc:description/>
  <dc:language>en-US</dc:language>
  <cp:lastModifiedBy>DEET</cp:lastModifiedBy>
  <dcterms:modified xsi:type="dcterms:W3CDTF">2009-06-01T09:03:49Z</dcterms:modified>
  <cp:revision>55</cp:revision>
  <dc:subject/>
  <dc:title>Slide 1</dc:title>
</cp:coreProperties>
</file>